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BA4A-FCFC-473A-94B0-6929C415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619F-1060-4C25-B3CE-1D511DAA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9B24-CB32-4466-8D45-8D09C3CC0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0C8F-C022-402E-B3FE-40027EAA3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3C24-2157-489A-9079-30673C14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C149-139C-4985-8CAC-1156F27F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C737-B524-4A46-89A7-1FFD460A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D771-E2A4-4699-94F6-01BB8B9C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D387-E315-49E8-9E87-C57BAE66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4B44-BF61-450F-9BA7-089CB209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D257-BD99-4E96-967E-14403F0F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04F7-52AB-44DD-A805-C46724A8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CA30-C190-4CD8-9D70-6FD76C6B1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nineplanets.org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5105520" cy="12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JUP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0" y="54864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uma Om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28600" y="1447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picture’s Jupiter is taken by Voyager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http://pds.jpl.nasa.gov/planets/images/browse/jupiter/jupiter.jpg"/>
          <p:cNvPicPr/>
          <p:nvPr/>
        </p:nvPicPr>
        <p:blipFill>
          <a:blip r:embed="rId1"/>
          <a:stretch/>
        </p:blipFill>
        <p:spPr>
          <a:xfrm>
            <a:off x="4343400" y="380880"/>
            <a:ext cx="4568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ation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satellite names and dates that have explored your pla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a photo (with a caption that describes the mission) of at least one of the satellites that has visited your plan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more slides if you need 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ine Plan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discovered your planet? When? How? W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how the planet got its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5410080" y="4343400"/>
            <a:ext cx="1881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a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planet from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 from the sun:5.2 A.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days to orbit around the sun:4332.59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gth of one day is 9hours 50min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an photo on this slide that shows where your planet is located in relative to other plan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et Measu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:1.900e27kg     Volume:1,4465172e+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sition and Atm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core and surface composition of your pla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composition of the atmosphere if any.  If your planet does not have an atmosphere, simply state your planet does not have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face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ace temperatures – coldest, hottest,             average= -140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details about weather found on your planet.  If you are doing Jupiter or Neptune, this is where you should show and tell about the large sp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piter have 63 mo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on’s name is Callisto, Europa, Ganymede, Lo (and mo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t the name of the most interesting moon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us about this interesting m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several fa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a photo (with a cap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ain, if your planet does not have moons, add more photos and ca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information about the rings surrounding your pla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a photo (with a caption) of the r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r planet does not have rings, add more photos and descriptive ca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1T15:39:58Z</dcterms:created>
  <dc:creator>Sean Gardinier</dc:creator>
  <dc:description/>
  <dc:language>en-US</dc:language>
  <cp:lastModifiedBy>nauczyciel006n</cp:lastModifiedBy>
  <dcterms:modified xsi:type="dcterms:W3CDTF">2009-02-02T11:15:08Z</dcterms:modified>
  <cp:revision>35</cp:revision>
  <dc:subject/>
  <dc:title>Name of Planet</dc:title>
</cp:coreProperties>
</file>